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86F-291B-4287-A8A9-245B015A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8A6-91B3-4AFD-B32F-749C4737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48EE9-7746-44AC-BDCD-594EFD50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23050-88A4-4EF0-A4D7-F25BD76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2400F-1C40-4886-8C60-9E2879F1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86B71-31D4-41CB-89E5-40CCCA22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5DD95-60AF-47F3-82EC-CB73185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81C34-AC52-40C6-98A2-D45A810E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EC514-4E30-44E1-8085-A1839F81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65A7D-C791-4029-9FDF-FB5BC7AD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EC0B0-6DC2-490E-8E65-149109F6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8F6-0922-48A2-8228-2170D816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59F-929C-48E3-8597-7CBEBA5E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9188-F6D9-4A5F-885E-EB072CE3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0C9D-983A-448A-91CC-7DB49D23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D334-CC04-4D23-A4C9-77B72831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3A4-AAD5-4813-A205-6A7A1413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CDE6-76D5-4FBA-AF08-3D46D0C1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8F1D-726F-4D8F-97E1-D87AB1D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B831-5488-4E02-A190-9B40127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D42-E57D-4E74-959A-F32B793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BE2E-F693-4386-B80B-E2A75575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5F3E-5FA0-48D3-9A1F-3AEE398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FB50-096E-4179-A7E6-CC6FA86A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076C-FAE3-4BAA-88B1-5DF2E9CC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32BE-56EE-4272-A001-2D9778D7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3659-4210-485C-A614-3BB908C0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A0F7-76AB-4EDF-A62F-546CEB72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3437-89C6-40B9-992B-C0977C23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C062-13C6-491E-AB34-5BC3E818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CA1C-E700-439C-B456-1FBF80F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2D2-0BBB-4ED8-831C-B2BE03B1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F500-BBCA-4A79-8CC4-0F504C0B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28F73-9687-421E-B25E-E13D0FD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70B0-20A4-48BC-8A11-4EDC1E0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6E41-FC06-4BBC-BAD3-4223ADA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D07C-6200-4DDC-A8D1-E14CC341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E7C3-7D9A-4E34-B3D1-B10B8222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0215-5937-4B60-8C2F-BEDD218A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F14B-677C-4F69-9B06-8943EEE4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26442-098A-4A63-9E28-5D7C1B2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380E-91FA-423E-895F-454C2BA0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90D-541D-4CE0-ACA9-B106739D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5F83F-555B-4DA4-A4CC-96F5E749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A1DA-9514-49F9-9E6D-41F0B6D1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B414C-DEA9-4141-9481-94F779EB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DEC3-FF08-4D4C-9395-B9D94B47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1A8D-A1B4-4D98-BE42-7A2B8A85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2419-69AF-4629-A45B-1343E7F5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9F1E8-4C2F-403C-895C-A02352FF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0C5A2-A9AC-4EAD-B56A-B26E751D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B4C0F-6F2B-44FB-9422-933E84A5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CE9B6-5E7A-4EA8-A06D-A6B98977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E81-F3B1-4C16-9D72-A325736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1008C-ED4E-44B0-89E1-4C72C122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E87C-983A-47E1-9360-2870C0AF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18399-F214-426E-830E-9987CA15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A7EA-1173-42B8-BD79-F97FFA4F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00CF3-A003-422C-AE0E-9F69D3A0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A96AB-9341-4836-A546-B8B5ED3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FB02A-D1C2-498A-83DE-A77A47F7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B235-AEEA-4FD3-9D0B-1539D6AD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22BCB-FABD-4F38-97FC-F506C88F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9BB34-2C6C-408E-828B-37BB587A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373-8406-4CD2-A7ED-33453A9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BE9C-2586-453D-94C6-CE5802BD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F864F-F593-4FA0-922C-3D856F23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FEBA8-561A-44E6-A6FC-AC8B7F29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4739-C17F-4C8D-8610-FB5B1F25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2B05E-160E-4498-A20C-B50151A4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3706A-F81C-4DEA-B942-DA71B878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5D23E-7EE6-4E5F-A75F-E101D9AB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1C90-9900-4CB2-8E82-01E18B01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063E-6E86-4EE1-8B30-2F3C1DB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76BD-FB56-4FFD-B22A-5B76E70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C8A-DF1F-4431-8715-DFEEAA6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14781-3E34-48F3-9D1C-45879EF3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4D3B-1E7F-4071-BC02-E86ABC91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070D5-C114-4767-B86E-D3454C1E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A0DCD-CD34-4F9E-AE57-DDCB8239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4DFCC-F11A-4855-8560-C323BA98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0212-D650-4F19-A635-D979CD7C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2F5FB-2C2F-4246-B2DE-0D3D08AB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0C790-2797-4EB0-9A66-81B7601C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8940-ECF4-4DA7-B5D0-B8F908AD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B0A6-654A-4203-A046-B752872A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4E5-E150-44EC-A799-192027AC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46A5C-DA3C-4079-8F96-9D540758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9C725-6F70-4FEE-B5E0-4B498B73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99F72-1783-48AA-9708-A37C5D4F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7E27-033C-471F-AE8D-0A17955D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7432A-1097-450F-8DD4-4337F821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BE959-1B7F-41AA-AFF4-74962E82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7BD09-42B3-45F3-B306-A65BB0E7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0722C-E3FD-42F1-978A-A00FF8D5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9764C-D17D-4626-8205-149FA574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3705C-FE99-4BA8-90B1-58B3D27B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9D7-FD7B-4BEC-806D-009F0996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6F3C6-81DC-4B50-8D87-24BD4C7D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D1147-59DF-4108-8A40-2B530C5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CEB26-3D8D-4751-91CF-54A2B2B1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5372-5C75-4C70-80A4-9D74A6DA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A25C5-9839-4676-8FFF-D4406429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F4941-D79C-4A64-B941-05B11422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A6AE-7569-4A4A-AC0E-E54DE4F7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250D2-76FB-476B-97CD-CB6BC69F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04B29-4D46-4C0F-B770-7E17539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4720E-BD82-445B-A713-AE1F0BCA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0CD-BB8D-4208-9F6D-76ABD65EA2A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3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8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7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2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2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7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7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7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2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2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7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7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1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2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6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6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riangle rectangle 1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orme libre 19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orme libre 20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orme libre 22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4" name="Forme libr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Connecteur droit 23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ZoneTexte 24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2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BAF4-57C4-41BE-8A9C-6A0F465536FE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03B2-83CC-4F22-8B02-17441DF634D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59" name="Chevron 1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hevron 1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021B-5E1F-4B21-B5ED-3FA592E8D57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A8E3-4A1B-4077-89AE-08CA28527DB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B791-3FDA-46BF-992C-B1B36B0EE9A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2004-096E-4E50-BED9-5ADD4F4E5966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3782-1968-4DE6-9EC0-0B3E3423FD9A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rme libre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rme libre 1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Triangle rectangle 1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5" name="Triangle rectangle 1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Connecteur droit 2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8" name="Chevron 2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hevron 2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169A-A5EA-4F1F-81B0-E0A9A4B137AF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Users\Pierre\Desktop\S&#233;minaire Acad&#233;mique CRSA\grille_UC_UF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ZoneTexte 1"/>
          <p:cNvSpPr/>
          <p:nvPr/>
        </p:nvSpPr>
        <p:spPr>
          <a:xfrm>
            <a:off x="971640" y="1125360"/>
            <a:ext cx="734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MODULAR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D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BTS CR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"/>
          <p:cNvSpPr/>
          <p:nvPr/>
        </p:nvSpPr>
        <p:spPr>
          <a:xfrm>
            <a:off x="611280" y="198900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ormément au décret n°2007-540 du 11 avril 2007 du journal officiel modifiant le décret n°95-665 du 9 mai 1995 portant règlement général du brevet de technicien supéri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'obtention du brevet de technicien supérieur emporte l'acquisition de cent vingt crédits europée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Titre 4" descr=""/>
          <p:cNvPicPr/>
          <p:nvPr/>
        </p:nvPicPr>
        <p:blipFill>
          <a:blip r:embed="rId1"/>
          <a:stretch/>
        </p:blipFill>
        <p:spPr>
          <a:xfrm>
            <a:off x="-182520" y="-12600"/>
            <a:ext cx="8740800" cy="1712880"/>
          </a:xfrm>
          <a:prstGeom prst="rect">
            <a:avLst/>
          </a:prstGeom>
          <a:ln w="0">
            <a:noFill/>
          </a:ln>
        </p:spPr>
      </p:pic>
      <p:sp>
        <p:nvSpPr>
          <p:cNvPr id="956" name="Connecteur droit 5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ZoneTexte 2"/>
          <p:cNvSpPr/>
          <p:nvPr/>
        </p:nvSpPr>
        <p:spPr>
          <a:xfrm>
            <a:off x="971640" y="126828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cret n° 2011-1256 du 7 octobre 2011 portant dispositions spécifiques 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ertaines spécialités du brevet de technicien supérieur pour les sessions d'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013 à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Bouton d'action : Document 3"/>
          <p:cNvSpPr/>
          <p:nvPr/>
        </p:nvSpPr>
        <p:spPr>
          <a:xfrm>
            <a:off x="7956720" y="5805360"/>
            <a:ext cx="502920" cy="576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52">
                <a:moveTo>
                  <a:pt x="0" y="0"/>
                </a:moveTo>
                <a:lnTo>
                  <a:pt x="21600" y="0"/>
                </a:lnTo>
                <a:lnTo>
                  <a:pt x="21600" y="24752"/>
                </a:lnTo>
                <a:lnTo>
                  <a:pt x="0" y="24752"/>
                </a:lnTo>
                <a:close/>
              </a:path>
              <a:path fill="lightenLess" w="21600" h="24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52">
                <a:moveTo>
                  <a:pt x="21600" y="0"/>
                </a:moveTo>
                <a:lnTo>
                  <a:pt x="21600" y="24752"/>
                </a:lnTo>
                <a:lnTo>
                  <a:pt x="20200" y="23352"/>
                </a:lnTo>
                <a:lnTo>
                  <a:pt x="20200" y="1400"/>
                </a:lnTo>
                <a:close/>
              </a:path>
              <a:path fill="darkenLess" w="21600" h="24752">
                <a:moveTo>
                  <a:pt x="21600" y="24752"/>
                </a:moveTo>
                <a:lnTo>
                  <a:pt x="0" y="24752"/>
                </a:lnTo>
                <a:lnTo>
                  <a:pt x="1400" y="23352"/>
                </a:lnTo>
                <a:lnTo>
                  <a:pt x="20200" y="23352"/>
                </a:lnTo>
                <a:close/>
              </a:path>
              <a:path fill="lighten" w="21600" h="24752">
                <a:moveTo>
                  <a:pt x="0" y="24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52"/>
                </a:lnTo>
                <a:close/>
              </a:path>
              <a:path fill="darkenLess" w="21600" h="24752">
                <a:moveTo>
                  <a:pt x="5273" y="5561"/>
                </a:moveTo>
                <a:lnTo>
                  <a:pt x="12271" y="5561"/>
                </a:lnTo>
                <a:lnTo>
                  <a:pt x="16327" y="9060"/>
                </a:lnTo>
                <a:lnTo>
                  <a:pt x="16327" y="19191"/>
                </a:lnTo>
                <a:lnTo>
                  <a:pt x="5273" y="19191"/>
                </a:lnTo>
                <a:close/>
              </a:path>
              <a:path fill="darken" w="21600" h="24752">
                <a:moveTo>
                  <a:pt x="12271" y="5561"/>
                </a:moveTo>
                <a:lnTo>
                  <a:pt x="16327" y="9060"/>
                </a:lnTo>
                <a:lnTo>
                  <a:pt x="12271" y="906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ZoneTexte 5"/>
          <p:cNvSpPr/>
          <p:nvPr/>
        </p:nvSpPr>
        <p:spPr>
          <a:xfrm>
            <a:off x="324000" y="242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Titre 5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491680" cy="11336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 txBox="1"/>
          <p:nvPr/>
        </p:nvSpPr>
        <p:spPr>
          <a:xfrm>
            <a:off x="324000" y="233208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Existence d’un référentiel de formation s’ajoutant aux référentiels d’activités professionnelles et de Certif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éclinaison des unités de certification du diplôme en unités de formation, elles-mêmes déclinables en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es crédits ECTS 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fr-FR" sz="1400" spc="-1" strike="noStrike">
                <a:solidFill>
                  <a:srgbClr val="464646"/>
                </a:solidFill>
                <a:latin typeface="Lucida Sans Unicode"/>
              </a:rPr>
              <a:t>European Crédits Transfer System)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pouvant être attachés aux unités de formation ou aux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Connecteur droit 7"/>
          <p:cNvSpPr/>
          <p:nvPr/>
        </p:nvSpPr>
        <p:spPr>
          <a:xfrm>
            <a:off x="395280" y="765000"/>
            <a:ext cx="7070760" cy="180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8" name=""/>
          <p:cNvGraphicFramePr/>
          <p:nvPr/>
        </p:nvGraphicFramePr>
        <p:xfrm>
          <a:off x="179280" y="1628640"/>
          <a:ext cx="4032360" cy="2067120"/>
        </p:xfrm>
        <a:graphic>
          <a:graphicData uri="http://schemas.openxmlformats.org/drawingml/2006/table">
            <a:tbl>
              <a:tblPr/>
              <a:tblGrid>
                <a:gridCol w="1195560"/>
                <a:gridCol w="1342800"/>
                <a:gridCol w="1494000"/>
              </a:tblGrid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-sionnel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 de cer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étences termi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4427640" y="1628640"/>
          <a:ext cx="4465440" cy="2125800"/>
        </p:xfrm>
        <a:graphic>
          <a:graphicData uri="http://schemas.openxmlformats.org/drawingml/2006/table">
            <a:tbl>
              <a:tblPr/>
              <a:tblGrid>
                <a:gridCol w="865080"/>
                <a:gridCol w="1150920"/>
                <a:gridCol w="447840"/>
                <a:gridCol w="417240"/>
                <a:gridCol w="506520"/>
                <a:gridCol w="417600"/>
                <a:gridCol w="6602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s de forma-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ai_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0" name="Accolade fermante 9"/>
          <p:cNvSpPr/>
          <p:nvPr/>
        </p:nvSpPr>
        <p:spPr>
          <a:xfrm rot="5400000">
            <a:off x="1836000" y="2564280"/>
            <a:ext cx="719280" cy="388944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889440"/>
              <a:gd name="textAreaBottom" fmla="*/ 387072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ccolade fermante 14"/>
          <p:cNvSpPr/>
          <p:nvPr/>
        </p:nvSpPr>
        <p:spPr>
          <a:xfrm rot="5400000">
            <a:off x="6300720" y="2340000"/>
            <a:ext cx="718920" cy="4319280"/>
          </a:xfrm>
          <a:custGeom>
            <a:avLst/>
            <a:gdLst>
              <a:gd name="textAreaLeft" fmla="*/ 0 w 718920"/>
              <a:gd name="textAreaRight" fmla="*/ 259560 w 718920"/>
              <a:gd name="textAreaTop" fmla="*/ 18720 h 4319280"/>
              <a:gd name="textAreaBottom" fmla="*/ 4300560 h 43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ZoneTexte 10"/>
          <p:cNvSpPr/>
          <p:nvPr/>
        </p:nvSpPr>
        <p:spPr>
          <a:xfrm>
            <a:off x="428760" y="489420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AP et référentiel de c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ZoneTexte 16"/>
          <p:cNvSpPr/>
          <p:nvPr/>
        </p:nvSpPr>
        <p:spPr>
          <a:xfrm>
            <a:off x="4788000" y="486900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éférentiel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Bouton d'action : Document 10">
            <a:hlinkClick r:id="rId1"/>
          </p:cNvPr>
          <p:cNvSpPr/>
          <p:nvPr/>
        </p:nvSpPr>
        <p:spPr>
          <a:xfrm>
            <a:off x="8101080" y="573264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  <a:path fill="darkenLess" w="21600" h="24400">
                <a:moveTo>
                  <a:pt x="5273" y="5385"/>
                </a:moveTo>
                <a:lnTo>
                  <a:pt x="12271" y="5385"/>
                </a:lnTo>
                <a:lnTo>
                  <a:pt x="16327" y="8884"/>
                </a:lnTo>
                <a:lnTo>
                  <a:pt x="16327" y="19015"/>
                </a:lnTo>
                <a:lnTo>
                  <a:pt x="5273" y="19015"/>
                </a:lnTo>
                <a:close/>
              </a:path>
              <a:path fill="darken" w="21600" h="24400">
                <a:moveTo>
                  <a:pt x="12271" y="5385"/>
                </a:moveTo>
                <a:lnTo>
                  <a:pt x="16327" y="8884"/>
                </a:lnTo>
                <a:lnTo>
                  <a:pt x="12271" y="8884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Titre 15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8493120" cy="1158840"/>
          </a:xfrm>
          <a:prstGeom prst="rect">
            <a:avLst/>
          </a:prstGeom>
          <a:ln w="0">
            <a:noFill/>
          </a:ln>
        </p:spPr>
      </p:pic>
      <p:sp>
        <p:nvSpPr>
          <p:cNvPr id="926" name="Connecteur droit 16"/>
          <p:cNvSpPr/>
          <p:nvPr/>
        </p:nvSpPr>
        <p:spPr>
          <a:xfrm>
            <a:off x="611280" y="836640"/>
            <a:ext cx="698508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e 7"/>
          <p:cNvGrpSpPr/>
          <p:nvPr/>
        </p:nvGrpSpPr>
        <p:grpSpPr>
          <a:xfrm>
            <a:off x="1025640" y="620640"/>
            <a:ext cx="6570720" cy="5602320"/>
            <a:chOff x="1025640" y="620640"/>
            <a:chExt cx="6570720" cy="5602320"/>
          </a:xfrm>
        </p:grpSpPr>
        <p:graphicFrame>
          <p:nvGraphicFramePr>
            <p:cNvPr id="928" name="Objet 3"/>
            <p:cNvGraphicFramePr/>
            <p:nvPr/>
          </p:nvGraphicFramePr>
          <p:xfrm>
            <a:off x="1043640" y="620640"/>
            <a:ext cx="6448680" cy="172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9" name="Obje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3640" y="620640"/>
                      <a:ext cx="6448680" cy="17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Objet 4"/>
            <p:cNvGraphicFramePr/>
            <p:nvPr/>
          </p:nvGraphicFramePr>
          <p:xfrm>
            <a:off x="1165680" y="2580840"/>
            <a:ext cx="6430680" cy="274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1" name="Obje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65680" y="2580840"/>
                      <a:ext cx="6430680" cy="27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Objet 5"/>
            <p:cNvGraphicFramePr/>
            <p:nvPr/>
          </p:nvGraphicFramePr>
          <p:xfrm>
            <a:off x="1025640" y="4762080"/>
            <a:ext cx="6430680" cy="146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3" name="Obje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25640" y="4762080"/>
                      <a:ext cx="6430680" cy="14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4" name="Bouton d'action : Document 5"/>
          <p:cNvSpPr/>
          <p:nvPr/>
        </p:nvSpPr>
        <p:spPr>
          <a:xfrm>
            <a:off x="838836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Objet 3"/>
          <p:cNvGraphicFramePr/>
          <p:nvPr/>
        </p:nvGraphicFramePr>
        <p:xfrm>
          <a:off x="611280" y="1413000"/>
          <a:ext cx="73213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Obje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3213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Bouton d'action : Document 4"/>
          <p:cNvSpPr/>
          <p:nvPr/>
        </p:nvSpPr>
        <p:spPr>
          <a:xfrm>
            <a:off x="8540640" y="538164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Titre 1" descr=""/>
          <p:cNvPicPr/>
          <p:nvPr/>
        </p:nvPicPr>
        <p:blipFill>
          <a:blip r:embed="rId1"/>
          <a:stretch/>
        </p:blipFill>
        <p:spPr>
          <a:xfrm>
            <a:off x="212760" y="55440"/>
            <a:ext cx="8493120" cy="127980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5"/>
          <p:cNvSpPr/>
          <p:nvPr/>
        </p:nvSpPr>
        <p:spPr>
          <a:xfrm>
            <a:off x="684360" y="1052640"/>
            <a:ext cx="76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tructuration de la formation en modules impliqu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9640" y="15573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, dès la première année de formation et sous la responsabilité du chef d’établissement, d’une équipe pédagogique organis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’articuler au mieux les différents modules en cohérence avec les publics accueillis et garantissant la possibilité de proposer des parcours individualisé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 de tests de positionnement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une réflexion sur l’enchaînement temporel de modules qui sont à priori proposés en première année et en deuxième ann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e terminer un module avant la fin du semestre en cour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Connecteur droit 6"/>
          <p:cNvSpPr/>
          <p:nvPr/>
        </p:nvSpPr>
        <p:spPr>
          <a:xfrm>
            <a:off x="611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3"/>
          <p:cNvSpPr/>
          <p:nvPr/>
        </p:nvSpPr>
        <p:spPr>
          <a:xfrm>
            <a:off x="611280" y="198900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partition des heures d’enseignement en classe entière et en effectif allégé est laissée à l'initiative du chef d’établissement sur proposition de l’équipe pédagogique, dans le respect du volume horaire prévu pour chaque module et dans le respect de la répartition annuelle des heures affectées à chacun des enseignements identifiés dans la grille horaire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Bouton d'action : Document 3"/>
          <p:cNvSpPr/>
          <p:nvPr/>
        </p:nvSpPr>
        <p:spPr>
          <a:xfrm>
            <a:off x="7596360" y="5300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Less" w="21600" h="27024">
                <a:moveTo>
                  <a:pt x="5273" y="6697"/>
                </a:moveTo>
                <a:lnTo>
                  <a:pt x="12271" y="6697"/>
                </a:lnTo>
                <a:lnTo>
                  <a:pt x="16327" y="10196"/>
                </a:lnTo>
                <a:lnTo>
                  <a:pt x="16327" y="20327"/>
                </a:lnTo>
                <a:lnTo>
                  <a:pt x="5273" y="20327"/>
                </a:lnTo>
                <a:close/>
              </a:path>
              <a:path fill="darken" w="21600" h="27024">
                <a:moveTo>
                  <a:pt x="12271" y="6697"/>
                </a:moveTo>
                <a:lnTo>
                  <a:pt x="16327" y="10196"/>
                </a:lnTo>
                <a:lnTo>
                  <a:pt x="12271" y="1019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itre 5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491680" cy="1341360"/>
          </a:xfrm>
          <a:prstGeom prst="rect">
            <a:avLst/>
          </a:prstGeom>
          <a:ln w="0">
            <a:noFill/>
          </a:ln>
        </p:spPr>
      </p:pic>
      <p:sp>
        <p:nvSpPr>
          <p:cNvPr id="945" name="Connecteur droit 6"/>
          <p:cNvSpPr/>
          <p:nvPr/>
        </p:nvSpPr>
        <p:spPr>
          <a:xfrm>
            <a:off x="395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"/>
          <p:cNvSpPr/>
          <p:nvPr/>
        </p:nvSpPr>
        <p:spPr>
          <a:xfrm>
            <a:off x="611280" y="1989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la fin d’un parcours de formation, le chef d’établissement établit une attestation précisant le ou les modules suivis ainsi que le nombre de crédits ECTS alloués par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validation et cette attribution de crédits n’ont pas de valeur certific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Bouton d'action : Informations 3"/>
          <p:cNvSpPr/>
          <p:nvPr/>
        </p:nvSpPr>
        <p:spPr>
          <a:xfrm>
            <a:off x="6084720" y="5373720"/>
            <a:ext cx="719280" cy="934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4920"/>
              <a:gd name="textAreaBottom" fmla="*/ 888480 h 934920"/>
            </a:gdLst>
            <a:ahLst/>
            <a:rect l="textAreaLeft" t="textAreaTop" r="textAreaRight" b="textAreaBottom"/>
            <a:pathLst>
              <a:path w="21600" h="28072">
                <a:moveTo>
                  <a:pt x="0" y="0"/>
                </a:moveTo>
                <a:lnTo>
                  <a:pt x="21600" y="0"/>
                </a:lnTo>
                <a:lnTo>
                  <a:pt x="21600" y="28072"/>
                </a:lnTo>
                <a:lnTo>
                  <a:pt x="0" y="28072"/>
                </a:lnTo>
                <a:close/>
              </a:path>
              <a:path fill="lightenLess" w="21600" h="28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2">
                <a:moveTo>
                  <a:pt x="21600" y="0"/>
                </a:moveTo>
                <a:lnTo>
                  <a:pt x="21600" y="28072"/>
                </a:lnTo>
                <a:lnTo>
                  <a:pt x="20200" y="26672"/>
                </a:lnTo>
                <a:lnTo>
                  <a:pt x="20200" y="1400"/>
                </a:lnTo>
                <a:close/>
              </a:path>
              <a:path fill="darkenLess" w="21600" h="28072">
                <a:moveTo>
                  <a:pt x="21600" y="28072"/>
                </a:moveTo>
                <a:lnTo>
                  <a:pt x="0" y="28072"/>
                </a:lnTo>
                <a:lnTo>
                  <a:pt x="1400" y="26672"/>
                </a:lnTo>
                <a:lnTo>
                  <a:pt x="20200" y="26672"/>
                </a:lnTo>
                <a:close/>
              </a:path>
              <a:path fill="lighten" w="21600" h="28072">
                <a:moveTo>
                  <a:pt x="0" y="28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2"/>
                </a:lnTo>
                <a:close/>
              </a:path>
              <a:path fill="darken" w="21600" h="28072">
                <a:moveTo>
                  <a:pt x="10800" y="703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72">
                <a:moveTo>
                  <a:pt x="10800" y="740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72">
                <a:moveTo>
                  <a:pt x="8224" y="11460"/>
                </a:moveTo>
                <a:lnTo>
                  <a:pt x="12088" y="11460"/>
                </a:lnTo>
                <a:lnTo>
                  <a:pt x="12088" y="18458"/>
                </a:lnTo>
                <a:lnTo>
                  <a:pt x="13376" y="18458"/>
                </a:lnTo>
                <a:lnTo>
                  <a:pt x="13376" y="19380"/>
                </a:lnTo>
                <a:lnTo>
                  <a:pt x="8224" y="19380"/>
                </a:lnTo>
                <a:lnTo>
                  <a:pt x="8224" y="18458"/>
                </a:lnTo>
                <a:lnTo>
                  <a:pt x="9512" y="18458"/>
                </a:lnTo>
                <a:lnTo>
                  <a:pt x="9512" y="12365"/>
                </a:lnTo>
                <a:lnTo>
                  <a:pt x="8224" y="1236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Connecteur droit 5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Titre 6" descr=""/>
          <p:cNvPicPr/>
          <p:nvPr/>
        </p:nvPicPr>
        <p:blipFill>
          <a:blip r:embed="rId1"/>
          <a:stretch/>
        </p:blipFill>
        <p:spPr>
          <a:xfrm>
            <a:off x="-328680" y="109440"/>
            <a:ext cx="9369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1"/>
          <p:cNvSpPr/>
          <p:nvPr/>
        </p:nvSpPr>
        <p:spPr>
          <a:xfrm>
            <a:off x="611280" y="198900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en que l'ECTS puisse contribuer à la reconnaissance des études d'une personne entre différentes institutions et systèmes éducatifs nationaux, les établissements d'enseignement supérieur sont des institutions auton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écisions finales demeurent la responsabilité des autorités concer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itre 6" descr=""/>
          <p:cNvPicPr/>
          <p:nvPr/>
        </p:nvPicPr>
        <p:blipFill>
          <a:blip r:embed="rId1"/>
          <a:stretch/>
        </p:blipFill>
        <p:spPr>
          <a:xfrm>
            <a:off x="-109440" y="-201600"/>
            <a:ext cx="8875440" cy="1609560"/>
          </a:xfrm>
          <a:prstGeom prst="rect">
            <a:avLst/>
          </a:prstGeom>
          <a:ln w="0">
            <a:noFill/>
          </a:ln>
        </p:spPr>
      </p:pic>
      <p:sp>
        <p:nvSpPr>
          <p:cNvPr id="952" name="Connecteur droit 5"/>
          <p:cNvSpPr/>
          <p:nvPr/>
        </p:nvSpPr>
        <p:spPr>
          <a:xfrm>
            <a:off x="539640" y="105264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Bouton d'action : Informations 6"/>
          <p:cNvSpPr/>
          <p:nvPr/>
        </p:nvSpPr>
        <p:spPr>
          <a:xfrm>
            <a:off x="6237360" y="5526000"/>
            <a:ext cx="718920" cy="935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935280"/>
              <a:gd name="textAreaBottom" fmla="*/ 888840 h 935280"/>
            </a:gdLst>
            <a:ahLst/>
            <a:rect l="textAreaLeft" t="textAreaTop" r="textAreaRight" b="textAreaBottom"/>
            <a:pathLst>
              <a:path w="21600" h="28097">
                <a:moveTo>
                  <a:pt x="0" y="0"/>
                </a:moveTo>
                <a:lnTo>
                  <a:pt x="21600" y="0"/>
                </a:lnTo>
                <a:lnTo>
                  <a:pt x="21600" y="28097"/>
                </a:lnTo>
                <a:lnTo>
                  <a:pt x="0" y="28097"/>
                </a:lnTo>
                <a:close/>
              </a:path>
              <a:path fill="lightenLess" w="21600" h="280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97">
                <a:moveTo>
                  <a:pt x="21600" y="0"/>
                </a:moveTo>
                <a:lnTo>
                  <a:pt x="21600" y="28097"/>
                </a:lnTo>
                <a:lnTo>
                  <a:pt x="20200" y="26697"/>
                </a:lnTo>
                <a:lnTo>
                  <a:pt x="20200" y="1400"/>
                </a:lnTo>
                <a:close/>
              </a:path>
              <a:path fill="darkenLess" w="21600" h="28097">
                <a:moveTo>
                  <a:pt x="21600" y="28097"/>
                </a:moveTo>
                <a:lnTo>
                  <a:pt x="0" y="28097"/>
                </a:lnTo>
                <a:lnTo>
                  <a:pt x="1400" y="26697"/>
                </a:lnTo>
                <a:lnTo>
                  <a:pt x="20200" y="26697"/>
                </a:lnTo>
                <a:close/>
              </a:path>
              <a:path fill="lighten" w="21600" h="28097">
                <a:moveTo>
                  <a:pt x="0" y="280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97"/>
                </a:lnTo>
                <a:close/>
              </a:path>
              <a:path fill="darken" w="21600" h="28097">
                <a:moveTo>
                  <a:pt x="10800" y="704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97">
                <a:moveTo>
                  <a:pt x="10800" y="741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97">
                <a:moveTo>
                  <a:pt x="8224" y="11472"/>
                </a:moveTo>
                <a:lnTo>
                  <a:pt x="12088" y="11472"/>
                </a:lnTo>
                <a:lnTo>
                  <a:pt x="12088" y="18470"/>
                </a:lnTo>
                <a:lnTo>
                  <a:pt x="13376" y="18470"/>
                </a:lnTo>
                <a:lnTo>
                  <a:pt x="13376" y="19393"/>
                </a:lnTo>
                <a:lnTo>
                  <a:pt x="8224" y="19393"/>
                </a:lnTo>
                <a:lnTo>
                  <a:pt x="8224" y="18470"/>
                </a:lnTo>
                <a:lnTo>
                  <a:pt x="9512" y="18470"/>
                </a:lnTo>
                <a:lnTo>
                  <a:pt x="9512" y="12378"/>
                </a:lnTo>
                <a:lnTo>
                  <a:pt x="8224" y="1237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oupe travail BTS AVA</dc:creator>
  <dc:description/>
  <dc:language>en-US</dc:language>
  <cp:lastModifiedBy>Pierre</cp:lastModifiedBy>
  <dcterms:modified xsi:type="dcterms:W3CDTF">2011-11-08T07:59:05Z</dcterms:modified>
  <cp:revision>155</cp:revision>
  <dc:subject/>
  <dc:title>activités et tâches professionnelles</dc:title>
</cp:coreProperties>
</file>